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FC73-3D60-4D9C-A5E4-AD855510CA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2F56-5C53-4FD2-B0E2-4CE14BFF0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B424-00A0-4F67-B794-76365A2DC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5FCB-3A06-4F0F-8662-4B31EBDC2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60AD-A3B1-44C4-88E5-F7376F51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0356F7-EEFD-43B3-BF61-F8BD52DC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34853F-727B-4672-9ACF-35DC2B8E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12B474-D8EF-46D4-AF76-E3235875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32107F-8B8D-48B1-B422-1E76D0A1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F5B322-1226-425F-9FF1-0D5C3F2F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96AF88-47DC-456B-88F9-27015AC4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576433-13BC-4491-9315-8C5FD6B6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A939D2-A33E-4CAC-915C-32FB7D940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EDD1AB-6802-46DE-8720-F38A45B59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4A1881-5145-401B-9DC2-218E2FD85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7A3A-CF0F-4A07-96B4-42F9000E5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757672-B21F-4F03-B02F-891B485A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5D5758-4A71-4242-8A45-1A2200A4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D9D10C-4DD3-4C9F-B1D3-0573E9AA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F3CD23-E9FE-47C0-B071-B9D3A64E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936852-84F8-4D3B-8C73-FFA79715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14EF85-247D-4738-97B7-F85E5B95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3C885A-396B-4A05-B969-3C24C751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7AA391-1793-4AC8-A786-6B9B04FF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E871D3-2C68-45E1-B5F2-91522CD6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854DFA-F774-4ACE-AD9B-7CF2247B5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05AE-B177-4B2D-9097-B97E67AC5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B26CD9-D350-45DF-9D71-BB37EEE1B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05F070-44DC-437C-BB0B-048FDEC2D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003B6-9B8A-4D5F-9849-EE426B7F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EB0A10-8B5C-48C3-A7D3-4B23428A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2DB88-DCFB-4A62-B999-969243DD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C0CA4-1790-4A0A-846F-2F783A2F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2213B-3FFF-4FFF-9862-B8418FC6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D51E9-78E6-4EBF-A70C-282A329B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1CF45-1C5A-437B-AF94-1300FFC4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26963-6EF9-4D82-8B82-AD1C1A09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9798DE-B09B-420C-8DDD-CC78FEE92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05BF4-F168-40E5-B46C-54E792E0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01243-C449-4479-9270-22C9EDA95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CB7C2-CA8B-4986-8EDA-D52061E5F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623ED1-EE5F-4038-8541-1E5E6B367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385959-42E4-4EBA-88B0-C4FC5204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4E8147-0FF5-4265-AA24-2FF5E4F0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18FD41-2910-443A-876F-2FD2B52B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897FEA-AE2F-4B99-981C-7DF89645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F1C0AC-ED19-47B1-A5B3-157CFAF4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EBBE3D-3D7F-48BC-B09F-B5246FF6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CC2E83-C1D6-4BB6-B761-9184412E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9675F8-4EA5-4882-9BD6-883180F8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955FBE-2D90-4230-8478-787779EB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06314E-6226-438E-B442-7B0D693A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037BFB-80C2-4C2C-ABEF-5393438FC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FC72CD-61C9-42FE-8AE2-F6E35F67C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A88F68-4D96-4077-8B0F-72F96047B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96B633-BAD0-47DF-A943-091AE31B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CF5097-2336-4BBE-81CB-16DDD115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C8EF7B-2596-41C8-9D86-4099531A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591FAB-2FDD-42E5-978A-074303FD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1873F6-77FD-4EF4-AE67-09AE2239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DD54A2-F09E-40C3-B872-4E3A1902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9B4A1E-EE94-44E9-A9D6-71AAD8CE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4973D8-9EA4-4A58-B8A7-5187F5C7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250A11-CFC2-4800-A3A3-F772D325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FD2736-BC48-42B4-A7C1-0EE973C93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B3EDD8-4DED-4B63-8C01-FD04D564C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411943-7D9C-45FD-9290-A7802CDB0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F9CBCA-265E-4787-B698-76114ED6F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07C37F-4A6A-420F-A5F8-E1D169D6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8A1B6D-0E30-45F9-87E5-AFF518A8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8B58E3-744C-4440-943D-6A89973D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14953B-7385-4FAB-9863-90D74120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14C0F5-53BD-4C9E-AB26-0AAA4DE1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13EA65-90CC-4E34-AFA4-6D5BA65C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045DC6-C8E3-42DD-8B0E-FB907639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54E7E7-9CDB-424B-8CC3-D2ACE1DB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03E4E0-E6CA-407D-9B11-E8564C9B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D5A48B-8C9E-4451-8F37-C2EF4441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AA583B-5390-466D-B6E4-E5144166E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3021D2-56E7-4DEE-BA38-6F98D1C8B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6160BC-F24E-47DA-B9DE-B7F889A57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D2408C-F37F-4603-8E8B-87EF945D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CB80ED-4545-49A6-B146-01988351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71B6A2-53F1-48F7-BF1B-562296A9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38FC19-5972-459A-956C-F40A98E6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EB5099-5A30-402A-B1AD-8616BCBA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8EEA25-033A-4D8D-9810-F94A4F3C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71A997-37FE-46EF-B789-B49ED577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AC20F1-9D9A-488D-BBA4-D8FF87EE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9CBA0E-CF76-4294-962C-21EE77A1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0BA888-C552-4E26-A0CA-DDD345AF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981DFC-D439-4B42-A42C-D4EBF5F30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99334C-6ECD-45E9-93A4-61BE303E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16D970-E217-4FEF-BF00-D3A3BD678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65547A-DC2B-4A5A-9894-DB541BAAD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ED0786-C81A-4568-A1F5-7EA8F92E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C51E2C-48CE-4B49-BF1B-E7AED016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FEBE9C-5195-48C8-A552-EB9FFF0D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D71898-A758-44B7-9560-E01D3D80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9404D3-7AED-4755-90F8-1968F37E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40A138-8A06-439E-B3FA-18CFEDF6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64BFD5-98EE-4C1A-96F0-611B8412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BB5DFF-C23D-4EA4-8C7A-456B8518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AC9828-2FC3-48FA-93E6-38446AB3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C424AA-054D-483E-9579-E35BE08C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88E846-9EE4-4685-AEEA-384D8380D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C7F912-0474-4669-9FD0-88DD8CC3E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288320-CCEA-4A67-9B87-00BCAB7D6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AFEF90-F268-4CDF-B0EE-F0D39CA6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7DD05A-0B27-415C-A837-0D6989A6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3438D9-9069-4D18-8526-C194A4B0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961E99-FA32-430D-AC3E-B1ADCFE4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441905-9424-4131-BC05-9A3360B4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D934D7-6C83-4998-904F-1471F424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67EB-7668-4C2F-A3D7-802C9B5B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1752F-9E0B-4F1D-8F64-CB67C3B2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157704-8BE6-498D-BD05-DE7381A3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576B4C-C70F-4F69-B779-23DAB6CB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FB4534-052A-4676-9CAB-70A7403B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0225E1-8A1C-486B-8AD3-F13AC8F71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D24AD8-0A6F-45E4-8C9B-BE0104500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B6F09A-9CCF-419D-9AF4-7C9F9025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6A7901-0E43-402E-BFFA-BFC00A0B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15755-D74E-4EAC-BADF-89D575AC9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09319F-1582-49A4-A14A-56375BE74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C5BA0-B86C-41CC-848F-0F2A7F7E3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86D8A-CB3F-4B87-B94D-5F9F457E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98A8F-4368-4CBB-8C33-7E0DB4A1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4F6BA-91E1-416E-A09F-1683E6CB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EBD43-36E7-499A-BE0C-7445E091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E105-9865-4479-99F2-B1D05C69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55C21-61AA-4283-A61C-C44351E4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2CC3A-94FC-4EA7-B10A-C0EB9805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63157-7CB2-4CFB-AF28-B767FDBF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2C507-2D47-41AC-B4FC-C5F9B7EC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056CA-E1CF-4CC8-9E09-55C80E7D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30BE2-ED94-434E-B1A7-0C90D6259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6FD2C-2F27-47D2-BA22-7D66B24E8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7D465-FF7C-4994-AD0E-CC8958BBC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9D1D9-DD4B-4233-9D69-AA567E3B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54A0D-08C7-4C01-9CE4-92F476A6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0015-66AB-4EA8-947B-D94B6F13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CEB58-F815-4B9F-B302-9D950B64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860D5-8740-4B2D-889B-3C63A79A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2C472-C622-481D-87F3-100D7442C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60106-2877-4109-8CAF-62A08478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11739-91E2-4E09-A5FB-B1701447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8EB39-16CA-4C62-858A-CD3CE64C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56525-78B5-4E0A-BEBC-97798EB3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2C403-75D7-438B-A4E3-5C45BDA9D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0828D-476E-4328-8A00-D02F3259C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A7BC2-D34C-4318-A3B8-A6029249D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6DE7-0991-44DE-98ED-16A530B8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67311-4B86-44BC-A33E-40723F39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E9189-9749-4D6F-A9BA-D828778B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83C2F-0323-444C-97CF-8E4B0CE2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E0402-C726-438D-87E1-67F79E08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47366-6088-40F6-8E0D-425515FD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35B81-AC76-48B1-8BF9-88702D14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12ED2-ECBA-4CFA-A388-00025DA6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F75B9-F951-4776-B931-2CF42A68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D96EE-0DF9-4AB0-B926-A5E656B1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8FAE6-BAA4-4BDA-8895-074C2E727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4CBF-92EB-438C-AC24-DF5DF01D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1191A-141B-47CD-9A5A-BFCF59201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08B86-9B6F-4571-AD96-96CA26045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3CE40-FD9C-4AC6-9C7C-43C6D77E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00105-3760-4806-8F6C-EA0B8A1C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5FE21-C0BA-4962-863F-7EE24A04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17E69-3CD3-4DF3-9B74-9C166C58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85C08-D9B9-470F-BCA5-28FCF591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38889-CC2F-4738-A3D2-A8E9914B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B4409-D034-4EFE-96D1-C95CA76E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26115-09FD-4351-883B-307D6713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A3F0-BD3F-4DA8-B291-1D62A342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0E394-64B5-480B-B4B9-88AB6690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EBF61-97FD-4D7A-A905-251996DEF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A2EB4-3C71-4D42-A824-534CFEE6A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22967-FE63-4463-A4D6-E4CCF1477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A30AF-68B9-4504-932D-05BDAC0E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81EE9-34A9-4E81-8E7C-F47DEC0B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D0799-5099-4363-94D8-691BD271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8B28C-91C5-46B3-8D7F-698B7BFD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788A1-5BF8-4825-8B39-4461D39E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AF222-C53B-4F65-A753-539E17FB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52B5-270D-4CBC-9D78-3818C8D8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30DA2-DFAC-49E3-961F-20376E31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1CB24-121A-43A8-B861-D94A9BD2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187EC-209D-4163-AB5B-2DCAC3A9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09F41-6B86-44DC-9ADD-A5ECEA14A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731CA-BB39-4227-A6BC-20F9664A4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E6679-F598-4157-9D57-F43648EFA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E3CBE-F5C5-4C4B-A4E8-808D5B66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28BE4-0D48-45C9-9074-FC190E67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367F0-2A9A-412C-9670-751E8C68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81627-F007-4EA3-9DD8-6E75CAFD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A873-C074-4490-8042-E454F1A2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63FF0-7D2F-4A40-8860-57DE61A8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EE277-5A7B-48AF-BA08-206C9844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05938-A5E3-4399-8FC4-0CAEDBD7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D3DB0-5997-4B5B-B50B-C16DE9B5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D6FF1-F138-497C-A3C2-063E90CC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7C4D4-5EE6-4459-B4E9-ADC52C365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DDBDE-4E41-4B41-9238-DA08C00C9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EDD0E0-E33B-4057-8876-2A867D1CD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33ED4B-2F09-41C3-A378-F3C5BD08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9E301D-9C80-43AD-9FAB-621DD271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38E3-8943-4305-A969-985A3AEFEAB8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8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9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30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62D3-B0BB-46A3-A44B-58B400943252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6FA4-52D2-4A08-A6DC-604AFA01A34D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8" descr="Overlay-ContentCaption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4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5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6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7966-740F-4F3D-9533-47A480202135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8" descr="Overlay-PictureCaption.png"/>
          <p:cNvPicPr/>
          <p:nvPr/>
        </p:nvPicPr>
        <p:blipFill>
          <a:blip r:embed="rId2"/>
          <a:stretch/>
        </p:blipFill>
        <p:spPr>
          <a:xfrm>
            <a:off x="449280" y="187200"/>
            <a:ext cx="8535960" cy="648360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7"/>
          </p:nvPr>
        </p:nvSpPr>
        <p:spPr>
          <a:xfrm>
            <a:off x="388584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8"/>
          </p:nvPr>
        </p:nvSpPr>
        <p:spPr>
          <a:xfrm>
            <a:off x="5866920" y="6288120"/>
            <a:ext cx="2676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9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DDEA-07B4-4E2D-8FBA-2EC02CECE186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8" descr="Overlay-PictureCaption-Extras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40"/>
          </p:nvPr>
        </p:nvSpPr>
        <p:spPr>
          <a:xfrm>
            <a:off x="380880" y="6288120"/>
            <a:ext cx="186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41"/>
          </p:nvPr>
        </p:nvSpPr>
        <p:spPr>
          <a:xfrm>
            <a:off x="3325320" y="6288120"/>
            <a:ext cx="5218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42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2C86-B88D-44C1-BD7E-841B77B7FA72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8" descr="Overlay-PictureCaption-Extras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380880" y="6288120"/>
            <a:ext cx="186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325320" y="6288120"/>
            <a:ext cx="5218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89C7-4007-420A-BC1E-4A7AC8FF416D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dt" idx="46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ftr" idx="47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sldNum" idx="48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22BF-B18E-41F1-B923-475CF2FF10B5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49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50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51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0B05-43DD-41B8-AE96-83FA465F4399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Overlay-TitleSlide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9766-5922-4BCC-8CFB-5753349398BA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5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3C80-772E-43CC-B304-ECA2954F3063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891B-8740-499F-A9EC-9948CC6FC387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Overlay-SectionHeader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BA6A-478F-46C9-93E5-FC364CF06F00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96AE-2B9A-4C4B-806D-3D0A7C074B6D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691F-4A99-4F61-A64D-0A217FE10BBC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216" name="Straight Connector 9"/>
          <p:cNvSpPr/>
          <p:nvPr/>
        </p:nvSpPr>
        <p:spPr>
          <a:xfrm>
            <a:off x="874800" y="2286000"/>
            <a:ext cx="35622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traight Connector 10"/>
          <p:cNvSpPr/>
          <p:nvPr/>
        </p:nvSpPr>
        <p:spPr>
          <a:xfrm>
            <a:off x="4816440" y="2286000"/>
            <a:ext cx="35654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1"/>
          <p:cNvSpPr/>
          <p:nvPr/>
        </p:nvSpPr>
        <p:spPr>
          <a:xfrm>
            <a:off x="874800" y="2286000"/>
            <a:ext cx="35622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12"/>
          <p:cNvSpPr/>
          <p:nvPr/>
        </p:nvSpPr>
        <p:spPr>
          <a:xfrm>
            <a:off x="4816440" y="2286000"/>
            <a:ext cx="35654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5E56-599D-4F0B-8901-46B64525A763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EACA-EDB7-42DB-8B2D-DE6D7A620222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10AE-EBB0-48DA-8C04-7A1514DEBE0D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FD82-6A66-4A89-8C45-F3AD256C9A48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DocL7AfIRo" TargetMode="External"/><Relationship Id="rId2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FR4S1BqdFG4&amp;feature=related" TargetMode="External"/><Relationship Id="rId2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2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599840" y="2492280"/>
            <a:ext cx="67626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alking With Students About Mindsets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1599840" y="3967200"/>
            <a:ext cx="67626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My Job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’m here to teach you, not to judge you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 will help you think, learn and continue to grow smarter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 will have high expectations and will not settle for anything less than your best, but I will show you how to reach those expectations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 will learn with you as I am always wanting to grow smarter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f you are behind (or fall behind), I will teach you how to catch up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5803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Your Job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Be open to learning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Put in effort to develop your skills to grow smarter EACH day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Read difficult books and work to understand what you read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rite everyday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Help me help you - If you don’t give anything, you can’t expect anything. Success does not come to you, you must come to it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Be accountable and responsible for your learning - That means more than just showing up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Homework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efore you fall asleep, and again when you wake up, say to yourself…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Smarter is not something you are. It is something that you get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67626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rebuchet MS"/>
              </a:rPr>
              <a:t>Mind Sets</a:t>
            </a:r>
            <a:endParaRPr b="0" lang="en-US" sz="5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1447560" y="2895120"/>
            <a:ext cx="6762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If you fail a test, what are some things your inner voice might say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If an inner voice says, “I’m stupid…”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Then we need to use cognitive thinking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We look at the facts and evidence more closely to draw an accurate conclusion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69608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What questions might we ask in order to get to the truth of the matter?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914400" y="233172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What other reasons might there be (other than stupidity) for failing a test?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769608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After you come to the conclusion that it isn’t stupidity…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Ask yourself these questions…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What can I learn from this 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How can I improve so I do better next time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Why is this man laughing?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abf24d"/>
                </a:solidFill>
                <a:uFillTx/>
                <a:latin typeface="Trebuchet MS"/>
                <a:hlinkClick r:id="rId1"/>
              </a:rPr>
              <a:t>http://www.youtube.com/watch?v=sDocL7AfIRo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 algn="ctr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 algn="ctr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Why…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Is no one telling these babies that they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are stupid because they don’t know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how to talk using real words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They just haven’t learned yet!!!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How does the brain work?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abf24d"/>
                </a:solidFill>
                <a:uFillTx/>
                <a:latin typeface="Trebuchet MS"/>
                <a:hlinkClick r:id="rId1"/>
              </a:rPr>
              <a:t>http://www.youtube.com/watch?v=FR4S1BqdFG4&amp;feature=related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/>
          </p:nvPr>
        </p:nvSpPr>
        <p:spPr>
          <a:xfrm>
            <a:off x="837720" y="304560"/>
            <a:ext cx="7696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ne day, in a class that is really important to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You, and that you like a lot, the teacher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eturns an important paper worth a lot of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oints. You got a ‘D’. You are very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disappointed. That evening, on your way back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home, you find a parking ticket on your car.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Frustrated, you call your best friend to share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your experience but are sort of brushed off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What would you think? What would you feel? What would you do? 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Write me a paragraph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Brain Growth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80" name="Picture 3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Make Synapses!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Ask yourself each night…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at did I learn today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at mistake did I make today that taught me something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y did I try hard at today? 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at was the result? 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How can I get better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Mind Sets – What They </a:t>
            </a:r>
            <a:r>
              <a:rPr b="1" lang="en-US" sz="3800" spc="-1" strike="noStrike">
                <a:solidFill>
                  <a:srgbClr val="ffff00"/>
                </a:solidFill>
                <a:latin typeface="Trebuchet MS"/>
              </a:rPr>
              <a:t>Think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37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rebuchet MS"/>
              </a:rPr>
              <a:t>Fixed Mindse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Life isn’t fair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Nobody likes me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ings never work out for me.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72392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rebuchet MS"/>
              </a:rPr>
              <a:t>Growth Mindse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 need to try harder in class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 need to be more careful where I park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 wonder if my friend is having a bad day, too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Mind Sets – What They </a:t>
            </a:r>
            <a:r>
              <a:rPr b="1" lang="en-US" sz="3800" spc="-1" strike="noStrike">
                <a:solidFill>
                  <a:srgbClr val="ffff00"/>
                </a:solidFill>
                <a:latin typeface="Trebuchet MS"/>
              </a:rPr>
              <a:t>Do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8556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rebuchet MS"/>
              </a:rPr>
              <a:t>Fixed Mindse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Do nothing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tay in bed all day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at chocolate ice cream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Yell at someon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rebuchet MS"/>
              </a:rPr>
              <a:t>Growth Mindse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tudy a different way and ask for help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ay the ticke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Work things out with my friend the next time we speak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Think about it …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Was there death and 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destruction, or just a bad 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grade, a ticket and a 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disappointing phone call?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/>
          </p:nvPr>
        </p:nvSpPr>
        <p:spPr>
          <a:xfrm>
            <a:off x="990720" y="6854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Becoming is better than being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Potential means developing your skills: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with effort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ver time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You aren’t a failure until you start to blame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7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7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Effort is the </a:t>
            </a:r>
            <a:r>
              <a:rPr b="0" lang="en-US" sz="3800" spc="-1" strike="noStrike">
                <a:solidFill>
                  <a:srgbClr val="ffff00"/>
                </a:solidFill>
                <a:latin typeface="Trebuchet MS"/>
              </a:rPr>
              <a:t>KEY</a:t>
            </a: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 to success!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73960" indent="-27396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People are all born with a love of learning. (think about babies), but a fixed mindset can undo it.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73960" indent="-27396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hallenge yourself to do something you have never done before - something difficult that you never though you could do. Picture it and think about how you will feel when you have accomplished it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Picture Thomas Edison inventing the light bulb…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Where is he?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What is he doing?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escribe what you imagine as vividly as you can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Edison was not a loner!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9720" indent="-27972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He had 30 assistants, including well trained scientists, helping him in a state-of the-art laboratory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79720" indent="-27972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It did not happen suddenly - It happened over time. It took several attempts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79720" indent="-27972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Edison never stopped learning and being curious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0T22:44:56Z</dcterms:created>
  <dc:creator>default</dc:creator>
  <dc:description/>
  <dc:language>en-US</dc:language>
  <cp:lastModifiedBy>Joyce Fouts</cp:lastModifiedBy>
  <dcterms:modified xsi:type="dcterms:W3CDTF">2013-06-20T23:20:59Z</dcterms:modified>
  <cp:revision>33</cp:revision>
  <dc:subject/>
  <dc:title>Talking With Students About Mindsets</dc:title>
</cp:coreProperties>
</file>